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E0B-15AE-436C-A1D9-F00569FF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009-A424-4069-8177-AD2D9D4B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F3B-75EB-44FD-85AC-AEE631E2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23B-41FB-4D4D-8344-8CE426F8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F8BD-BFF2-4F28-B40A-2BACFDF9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00A0-73C1-4351-BEB4-BF809681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6A15-5569-4C14-8D55-4B01B20A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F707-8D31-43D8-8A89-2206DC34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2FF7-621A-48E8-871D-E03E5570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A8D7-78BB-43BD-9A92-65BF003F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EF85-1ABE-4669-A9C2-195BDCAE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134-9389-4014-84A1-B9EEF3A4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5F1D-9C9B-4B99-897D-C7BC486D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2A12-A42A-485D-B862-E60EA31A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28CC-E112-4C7F-9059-49169F1C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896D-5165-4D09-B010-24B7DE2D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BCC3-C2AD-4060-BABE-E92B1BD1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129-8F3D-40A0-8E5B-0B723F68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FF5-0C09-4C6F-B66A-758E93AF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6F3-3E84-48B7-9EFE-E159BFD8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3C3-8C54-4ACE-9A79-108363B2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D25-C6C4-4E0B-9726-B33FF5E0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837-38D5-45F2-82CD-E4B2C63F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D94-6F8C-4FBB-B293-5BE5D74A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CA2F-BD53-4651-8F09-FDD67AF97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A660-1A4F-4616-9EF5-53AD58BD8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1571400"/>
            <a:ext cx="6286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485784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с.Павл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лтай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53880" y="-55440"/>
            <a:ext cx="7656480" cy="106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1356840"/>
            <a:ext cx="6943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files/quia/users/matmet/Graphics/Fancy-geometry-learn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39:28Z</dcterms:created>
  <dc:creator>Comp</dc:creator>
  <dc:description/>
  <dc:language>en-US</dc:language>
  <cp:lastModifiedBy>Comp</cp:lastModifiedBy>
  <dcterms:modified xsi:type="dcterms:W3CDTF">2011-07-28T11:15:35Z</dcterms:modified>
  <cp:revision>5</cp:revision>
  <dc:subject/>
  <dc:title>Слайд 1</dc:title>
</cp:coreProperties>
</file>