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C3B-56EA-4738-9E7A-5A27022E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1F6-76DC-4863-A093-9C06E53F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D80A-BBE7-4D73-BB10-08C9B68A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2AF-C8E1-4759-964B-ADFA4AD4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A518-18BA-4447-B279-280B75D9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E5FC-C1F1-470A-838F-B085CBB9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C07C-CDC3-4839-AEC7-36C6C878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02D1-3D93-4AAF-9564-2E10A33F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2514-E102-4A30-A838-1BD45F18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BCA2-5BA6-4780-BC36-C47BDE4D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E8BB-53DD-416D-8A5E-26B266AD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7AF-3E4A-459D-B735-AEC121A4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4167-0BB9-4DC0-8086-252E74C8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29F2-BE2D-4616-B99A-0D663B6D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DC3B-D1F9-4A79-A330-0AB7D812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FA70-B650-4FD0-97D7-C13C71E8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3F67-5553-4AD3-85B2-38E0BAD9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DD41-A3B7-45A2-891A-2FDB60AF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820-1863-4804-A924-532EA815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D90-861B-4FBB-BEFF-EF136198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584-2D58-40B9-A661-773328DE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D96-BB9B-4028-8039-E7E5F015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536-2275-4F83-A45D-BF947FF5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862-80A5-4FE8-B92D-5ECFF16D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3432-BD6C-4C91-88F8-9D7E8A8091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6278-DB0A-4C5A-8CE9-ECE578526B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714320"/>
            <a:ext cx="450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 rot="222000">
            <a:off x="2207520" y="3357000"/>
            <a:ext cx="450036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1268280" y="225360"/>
            <a:ext cx="7534440" cy="99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85600" y="1428840"/>
            <a:ext cx="69008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tineydgers.at.ua/sova3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endem.ru/uploads/posts/2010-09/1285569710_osennie-listya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burla.su/uploads/posts/2010-05/1274360367_poslednii_zvonok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Мои документы\Мои рисунки\images сова.jpeg"/>
          <p:cNvPicPr/>
          <p:nvPr/>
        </p:nvPicPr>
        <p:blipFill>
          <a:blip r:embed="rId2"/>
          <a:stretch/>
        </p:blipFill>
        <p:spPr>
          <a:xfrm>
            <a:off x="642960" y="12859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: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571680" y="2357280"/>
            <a:ext cx="1143000" cy="744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"/>
          <p:cNvPicPr/>
          <p:nvPr/>
        </p:nvPicPr>
        <p:blipFill>
          <a:blip r:embed="rId4"/>
          <a:stretch/>
        </p:blipFill>
        <p:spPr>
          <a:xfrm>
            <a:off x="428760" y="3571920"/>
            <a:ext cx="1214280" cy="928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"/>
          <p:cNvPicPr/>
          <p:nvPr/>
        </p:nvPicPr>
        <p:blipFill>
          <a:blip r:embed="rId5"/>
          <a:stretch/>
        </p:blipFill>
        <p:spPr>
          <a:xfrm>
            <a:off x="642960" y="5072040"/>
            <a:ext cx="9288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6:53:57Z</dcterms:created>
  <dc:creator>Comp</dc:creator>
  <dc:description/>
  <dc:language>en-US</dc:language>
  <cp:lastModifiedBy>Comp</cp:lastModifiedBy>
  <dcterms:modified xsi:type="dcterms:W3CDTF">2011-07-29T17:01:45Z</dcterms:modified>
  <cp:revision>2</cp:revision>
  <dc:subject/>
  <dc:title>Слайд 1</dc:title>
</cp:coreProperties>
</file>